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366-9BF2-4147-9C56-26511D9C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A02-026C-4BD5-9579-E0157E7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CBD-38B7-49CB-85CD-A8578E67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499-5EF0-4213-8EDA-7E238E1B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808-28D4-4C71-ACDB-7085394C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E04-8F76-4718-B9BF-8AC08786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5C46-CB70-4850-A58B-5FF0CBD6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37C-2CAB-4928-A023-650303E4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D1AB-A5A7-4E42-B6ED-59A8FF3A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E55B-383A-47E7-9D73-C685F32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4B4F-D3D9-4D37-A3F1-4557C84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D22-F402-4008-9262-C6DB5FB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4682-DBA1-4A53-8556-043597E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41B-3104-4A76-9951-42FC43B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5FE-E11C-4F5F-A76C-534194BC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854-4B8D-4551-AEF4-936956A2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95F-73DC-4896-9E73-3F59895F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E59-8AC8-4466-B162-EFA218BC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293-583B-403D-BAF3-43B5C1A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8F1-B52D-414F-B600-F974F2ED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9F3-61E3-4EDD-9F2E-ABAB9609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C5D-89C8-41ED-B0B9-4DEB0BB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CF4-1594-4125-8048-8CAD297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407-5773-4CA5-9F9C-5565AF3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258-14F0-4E34-AEFE-1C3189544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AD5-9620-40F1-AA9A-61770E54E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219320" y="304920"/>
            <a:ext cx="703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RK TWAIN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1240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Baskerville Old Face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Baskerville Old Face"/>
              </a:rPr>
              <a:t>María José Alobu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295800" cy="4286520"/>
          </a:xfrm>
          <a:prstGeom prst="rect">
            <a:avLst/>
          </a:prstGeom>
          <a:ln w="76320">
            <a:solidFill>
              <a:srgbClr val="66ccff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6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e1ff"/>
                </a:solidFill>
                <a:latin typeface="Comic Sans MS"/>
              </a:rPr>
              <a:t>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al name is: Samuel Langhorne Clem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as born: Florida, Missouri, on November 30,183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e had 6 br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wain was apprentice to a printer in 18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  1852 he wrote his first story :” the Dandy Frightening the Squ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443240" cy="1706760"/>
          </a:xfrm>
          <a:prstGeom prst="rect">
            <a:avLst/>
          </a:prstGeom>
          <a:ln w="28440">
            <a:solidFill>
              <a:srgbClr val="66cc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HIS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Travel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Historic nov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Short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362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8954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4114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648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867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22096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Inocents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Following the Equ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4038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he Prince and the Pau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4495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 Connecticut Yankee in King Arthur´s Cou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57150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The Celebrated Jumping Frog of Calaveras 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6324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442880" cy="1706760"/>
          </a:xfrm>
          <a:prstGeom prst="rect">
            <a:avLst/>
          </a:prstGeom>
          <a:ln w="28440">
            <a:solidFill>
              <a:srgbClr val="66ccff"/>
            </a:solidFill>
            <a:prstDash val="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Nove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HIS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514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The Adventures of Tom Saw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2438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afe1ff"/>
                </a:solidFill>
                <a:latin typeface="Arial"/>
              </a:rPr>
              <a:t>Huckleberry Fi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1871640" cy="2438280"/>
          </a:xfrm>
          <a:prstGeom prst="rect">
            <a:avLst/>
          </a:prstGeom>
          <a:ln w="76320">
            <a:solidFill>
              <a:srgbClr val="ff3300"/>
            </a:solidFill>
            <a:prstDash val="lgDash"/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0" r="0" b="6224"/>
          <a:stretch/>
        </p:blipFill>
        <p:spPr>
          <a:xfrm>
            <a:off x="6019920" y="3200400"/>
            <a:ext cx="1888920" cy="2438280"/>
          </a:xfrm>
          <a:prstGeom prst="rect">
            <a:avLst/>
          </a:prstGeom>
          <a:ln w="76320">
            <a:solidFill>
              <a:srgbClr val="ff330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59</cp:lastModifiedBy>
  <dcterms:modified xsi:type="dcterms:W3CDTF">2008-06-09T08:51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